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BFE9F9-094B-45A5-8794-627BF2A7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2AE451-32EE-4013-8039-EC3A16D9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0F0AC-5F4E-471E-B344-96E72158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F37611-5452-405D-B54E-AE73F263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D1280B-0A17-4F30-B7EA-06E3AEFB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43F386-C8BF-48DB-8563-7DCCD59C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E7D29F-5142-4253-884F-8F6223B8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23AE4B-5C86-4927-B24A-4D23C150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934B69-D3BE-4BA1-9720-888534D5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0E5F64-209B-4E8B-80CF-CD951611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93AD4B-BB3A-49FD-B77A-5E069747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D3BA78-A48A-4F00-944D-39A59FF9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C971DF-E0BE-4696-A148-BDA98077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533C24-E228-4961-832E-EA6F614B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A60470-CB94-4A01-8388-42A1F634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F7704E-F12C-4142-A67B-A8AC4E38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341FA3-9EF7-4639-A531-D99167A2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FE63EE-0D87-4213-9192-640BF7AC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FF066-2CB2-4E2B-9EFF-5FB921F3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4C30F7-5C38-4095-8D8C-E715908C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1CD25A-5ED9-4679-869B-A258C601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5902C8-A2E9-46CE-A7A2-95840CA3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C20934-0B37-4F05-BE64-E8274F3A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DDB0CC-6741-4F29-92C8-4128DDC7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7667280" y="6453360"/>
            <a:ext cx="14763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T. Love 2001, 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619280" cy="95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7020000" y="6597360"/>
            <a:ext cx="21240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ahoma"/>
              </a:rPr>
              <a:t>© T. Love 2001, 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E575-E45C-4301-86FF-9717514239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A32E-0972-4DC4-B6A6-562F0FF28F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619280" cy="95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Tahoma"/>
              </a:rPr>
              <a:t>Design Economies:</a:t>
            </a:r>
            <a:r>
              <a:rPr b="1" lang="en-AU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1" lang="en-AU" sz="3600" spc="-1" strike="noStrike">
                <a:solidFill>
                  <a:srgbClr val="333399"/>
                </a:solidFill>
                <a:latin typeface="Tahoma"/>
              </a:rPr>
              <a:t>Moving on from the Knowledge Econom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042920" y="3573360"/>
            <a:ext cx="41054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r. Terence L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ahoma"/>
              </a:rPr>
              <a:t>Curtin Research Fellow</a:t>
            </a:r>
            <a:br>
              <a:rPr sz="1600"/>
            </a:br>
            <a:r>
              <a:rPr b="1" lang="en-AU" sz="1600" spc="-1" strike="noStrike">
                <a:solidFill>
                  <a:srgbClr val="000000"/>
                </a:solidFill>
                <a:latin typeface="Tahoma"/>
              </a:rPr>
              <a:t>Dept of Design</a:t>
            </a:r>
            <a:br>
              <a:rPr sz="1600"/>
            </a:br>
            <a:r>
              <a:rPr b="1" lang="en-AU" sz="1600" spc="-1" strike="noStrike">
                <a:solidFill>
                  <a:srgbClr val="000000"/>
                </a:solidFill>
                <a:latin typeface="Tahoma"/>
              </a:rPr>
              <a:t>Curtin University, Western Australia</a:t>
            </a:r>
            <a:br>
              <a:rPr sz="1600"/>
            </a:br>
            <a:r>
              <a:rPr b="1" lang="en-AU" sz="1600" spc="-1" strike="noStrike">
                <a:solidFill>
                  <a:srgbClr val="000000"/>
                </a:solidFill>
                <a:latin typeface="Tahoma"/>
              </a:rPr>
              <a:t>t.love@curtin.edu.a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Visiting Research Fellow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Institute of Entrepreneurship and Enterprise Development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Lancaster University, Lancaster, UK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t.love@lancaster.ac.u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5300640"/>
            <a:ext cx="3095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Visiting Prof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Member of Scientific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UNID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Integrated Communication and Design Research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IADE, Lisbon, Portug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6192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 Infra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infrastructure consists of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rs – sufficient numbers with the right tra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and other design busine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education progra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al design organ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overnment bodies whose focus is design infra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research progra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vernment design polic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ithout adequate design infrastructure, new Australian scientific knowledge does not emerge in economically viable practical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sign Infrastructure – key poi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design infrastructure is important for Australia’s national develop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ovation programs are severely compromised where there is weakness in national design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design infrastructure directly improves innovation outco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230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Successful Inno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429000"/>
            <a:ext cx="7696080" cy="228600"/>
          </a:xfrm>
          <a:prstGeom prst="rightArrow">
            <a:avLst>
              <a:gd name="adj1" fmla="val 50000"/>
              <a:gd name="adj2" fmla="val 8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7432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Cn BT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259092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Cn BT"/>
              </a:rPr>
              <a:t>Entrepreneuri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Futura LtCn BT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27432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LtCn BT"/>
              </a:rPr>
              <a:t>Designs for  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3600" y="2743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Cn BT"/>
              </a:rPr>
              <a:t>Manu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22280" y="4191120"/>
            <a:ext cx="27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3886200"/>
            <a:ext cx="4952880" cy="228600"/>
          </a:xfrm>
          <a:prstGeom prst="leftRightArrow">
            <a:avLst>
              <a:gd name="adj1" fmla="val 50000"/>
              <a:gd name="adj2" fmla="val 43131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120" y="3995640"/>
            <a:ext cx="121896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039080" y="4000680"/>
            <a:ext cx="13428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230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search and Entrepreneurship Innovation Mod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3429000"/>
            <a:ext cx="7696080" cy="228600"/>
          </a:xfrm>
          <a:prstGeom prst="rightArrow">
            <a:avLst>
              <a:gd name="adj1" fmla="val 50000"/>
              <a:gd name="adj2" fmla="val 8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7432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Cn BT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259092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LtCn BT"/>
              </a:rPr>
              <a:t>Entrepreneuri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Futura LtCn BT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62120" y="3809880"/>
            <a:ext cx="1295280" cy="2593440"/>
            <a:chOff x="762120" y="3809880"/>
            <a:chExt cx="1295280" cy="2593440"/>
          </a:xfrm>
        </p:grpSpPr>
        <p:sp>
          <p:nvSpPr>
            <p:cNvPr id="232" name=""/>
            <p:cNvSpPr/>
            <p:nvPr/>
          </p:nvSpPr>
          <p:spPr>
            <a:xfrm>
              <a:off x="762120" y="3809880"/>
              <a:ext cx="1295280" cy="76320"/>
            </a:xfrm>
            <a:prstGeom prst="rightArrow">
              <a:avLst>
                <a:gd name="adj1" fmla="val 50000"/>
                <a:gd name="adj2" fmla="val 424292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4114800"/>
              <a:ext cx="10666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utura LtCn BT"/>
                </a:rPr>
                <a:t>New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Futura LtCn BT"/>
                </a:rPr>
                <a:t>knowledge (from research program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934320" y="3809880"/>
            <a:ext cx="1752480" cy="1968480"/>
            <a:chOff x="6934320" y="3809880"/>
            <a:chExt cx="1752480" cy="1968480"/>
          </a:xfrm>
        </p:grpSpPr>
        <p:sp>
          <p:nvSpPr>
            <p:cNvPr id="235" name=""/>
            <p:cNvSpPr/>
            <p:nvPr/>
          </p:nvSpPr>
          <p:spPr>
            <a:xfrm>
              <a:off x="6934320" y="3809880"/>
              <a:ext cx="1752480" cy="76320"/>
            </a:xfrm>
            <a:prstGeom prst="rightArrow">
              <a:avLst>
                <a:gd name="adj1" fmla="val 50000"/>
                <a:gd name="adj2" fmla="val 57405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91520" y="4038480"/>
              <a:ext cx="1295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utura LtCn BT"/>
                </a:rPr>
                <a:t>Commercialized distribution of products &amp;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200400" y="3809880"/>
            <a:ext cx="1752480" cy="15264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7560" y="4240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LtCn BT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41760" y="4648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LtCn BT"/>
              </a:rPr>
              <a:t>mag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9722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oblems of Australian Design Infrastruc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560" y="2060640"/>
            <a:ext cx="845820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Negligible funding for design research in Australia. This contrasts with the 100s of millions of dollars invested by countries such as the US and the UK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No government body dedicated to supporting design processes (Countries such as UK, US, Finland have several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mpared to other developed countries the level of Australian design infrastructure appears unusually low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No formal national design policy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Neglect of design processes in Australian innovation literatur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and stakehold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activity involves many stakehold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reprene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ing expe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exper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erials expe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process plan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desig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ers’ constituen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79360" y="1981080"/>
            <a:ext cx="8458200" cy="0"/>
          </a:xfrm>
          <a:prstGeom prst="line">
            <a:avLst/>
          </a:prstGeom>
          <a:ln w="76320">
            <a:solidFill>
              <a:srgbClr val="aa0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03480" y="3193920"/>
            <a:ext cx="2489400" cy="229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247840" y="2425320"/>
            <a:ext cx="774720" cy="7873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4114800" y="2895480"/>
            <a:ext cx="3816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473800" y="2361960"/>
            <a:ext cx="749160" cy="825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549760" y="2946240"/>
            <a:ext cx="584280" cy="330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499000" y="3746520"/>
            <a:ext cx="673200" cy="63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11960" y="4686480"/>
            <a:ext cx="6984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24560" y="5168880"/>
            <a:ext cx="660240" cy="266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41880" y="5473800"/>
            <a:ext cx="2520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323800" y="5473800"/>
            <a:ext cx="711000" cy="127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993680" y="5181480"/>
            <a:ext cx="1028520" cy="129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27280" y="3048120"/>
            <a:ext cx="1257120" cy="380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12800" y="3797280"/>
            <a:ext cx="1397160" cy="127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549440" y="4520880"/>
            <a:ext cx="1460520" cy="127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6920" y="2038320"/>
            <a:ext cx="885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29462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ublic &amp; Med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oliticia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29462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29462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wners &amp;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ureacra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ders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29462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ty mar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ond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29462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29462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y-s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-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29462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E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29462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Execu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29462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 manag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29462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loy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29462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SIGN TE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ir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29462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ur mar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union offi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29462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or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2946240"/>
                <a:tab algn="l" pos="6108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al institu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&amp; Know-ho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1760" y="6281640"/>
            <a:ext cx="21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ahoma"/>
              </a:rPr>
              <a:t>Figure © Tellefsen and Love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4000" spc="-1" strike="noStrike">
                <a:solidFill>
                  <a:srgbClr val="ff0000"/>
                </a:solidFill>
                <a:latin typeface="Tahoma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05228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Tahoma"/>
              </a:rPr>
              <a:t>Economics of Design – UK figures</a:t>
            </a:r>
            <a:r>
              <a:rPr b="0" lang="en-A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Tahoma"/>
              </a:rPr>
              <a:t>British Businesses spend approximately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₤30 billion pa on design services - approx 3% corporate turnover (exceeding the 2.1% spent on R&amp;D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Tahoma"/>
              </a:rPr>
              <a:t>UK exports of Design services are approx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₤1 bn per annu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Tahoma"/>
              </a:rPr>
              <a:t>The design consultancy industry is around 4000 businesses and 80,000 staff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Tahoma"/>
              </a:rPr>
              <a:t>90% of rapidly growing businesses say design is integral to their operation – only 26% of static businesses say the same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Tahoma"/>
              </a:rPr>
              <a:t>74% of rapidly growing companies say that design is important  to their competitive edge over the last 10 years - compared to 44% overal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Tahoma"/>
              </a:rPr>
              <a:t>64% of rapidly growing companies say design, innovation and creativity has contributed strongly to their competitiveness over the past 3 years – compared to 14% overall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Tahoma"/>
              </a:rPr>
              <a:t>The shareprice of  companies renowned for their effective use of design outran the FTSE100 index by 65% (1995-2002) and outperformed it by 23% in the bearmarket of 2000-2002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Tahoma"/>
              </a:rPr>
              <a:t>Bigger Design-focused Economic,  Entrepreneurial and Business Pic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Real direct contribution to GDP (business design spend + design services exports) is around 80% greater than repor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esign activity is an enabling process. The contribution to GDP of the approx 75% of firms that critically depend on design activity would be significantly less without design in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esign activities are central to management, entrepreneurial  and other professional activities involved in business and innovation at all scales from enterprise to micro-busines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esign research is the discipline that focuses on improving the efficiency and effectiveness of these design activities and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esign research and design activity offers significant benefits for improving the success rate of entrepreneurial businesses, innovation programs and enterprise develop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Scope of Design Activ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There are over 650 different sub-fields of design activit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ahoma"/>
              </a:rPr>
              <a:t>Technical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design fields (engineering, construction, information systems, software, hardware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i="1" lang="en-AU" sz="2000" spc="-1" strike="noStrike">
                <a:solidFill>
                  <a:srgbClr val="000000"/>
                </a:solidFill>
                <a:latin typeface="Tahoma"/>
              </a:rPr>
              <a:t>Art and Design’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design fields (graphics, fashion, photography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i="1" lang="en-AU" sz="2000" spc="-1" strike="noStrike">
                <a:solidFill>
                  <a:srgbClr val="000000"/>
                </a:solidFill>
                <a:latin typeface="Tahoma"/>
              </a:rPr>
              <a:t>Other’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new design fields (e.g. social program design, organisation design; business process design; e-business system design; change management design; government policy design, curriculum design,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The proportions appear to be approx: Technical-40%; Art &amp; Design-10%; ‘Other’ design-40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sig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To devise a plan to change an existing situation into a preferred one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imon,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1984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sig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A specification or plan for changing an existing situation into a preferred o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sign infrastructur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expertise and resources necessary to convert information and new knowledge into designs for real world products, services, systems, organisations and polici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imon, H. A. (1984). </a:t>
            </a:r>
            <a:r>
              <a:rPr b="0" i="1" lang="en-A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ciences of the Artificial</a:t>
            </a:r>
            <a:r>
              <a:rPr b="0" lang="en-A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(2nd ed.). Cambridge, Ma: MIT Pres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efits of Strong Design Infrastructur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ong national design infrastructure increases national economic and social benefits by improving efficiency and effectiveness of design process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s increased complexity in the designs for products and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rtens time to 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duces effects of IPR 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duces downstream costs shaped by early design dec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mises risks of product and service failur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blems of Weak Design Infrastructu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novation programs compromised by lack of adequate design processes - leading to reduced quantity and quality of out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ays in converting new knowledge into commercially and socially beneficial products, services and syste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duced financial viability of innovation initi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ely reduced national economic and social benefits from investment in innovation and researc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02:23:18Z</dcterms:created>
  <dc:creator>tlove</dc:creator>
  <dc:description/>
  <dc:language>en-US</dc:language>
  <cp:lastModifiedBy>tlove</cp:lastModifiedBy>
  <dcterms:modified xsi:type="dcterms:W3CDTF">2005-08-20T08:10:01Z</dcterms:modified>
  <cp:revision>10</cp:revision>
  <dc:subject/>
  <dc:title>Designing Success in Entrepreneurship &amp; Innovation</dc:title>
</cp:coreProperties>
</file>