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8A70-3340-4F1A-86FC-78BD0720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199D-5B28-4366-9C95-F6D77A0C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4488-D951-43AA-ABBC-B344E0A45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D0E0-0102-4C64-AD53-A6C00227D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B009-EDC9-468A-A4CC-4B9EABF5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68A3-7D04-4818-9C19-D63F8452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5FB3-F1C5-47F2-8AA1-A95F251F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7DE8-17EA-44CC-93D5-E4906426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4FF2-87AF-4AFE-868E-A8751104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F2D3-A319-4075-818B-DF95D35D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668A-6527-4509-9771-C2BD8883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6B45-AFF4-4148-88B4-13049B79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1359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05120" y="6244920"/>
            <a:ext cx="541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29680" y="6244920"/>
            <a:ext cx="1257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4E3A-3CF3-4420-8C2A-58BD88925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371680" y="6350040"/>
            <a:ext cx="582480" cy="22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540240" y="6364440"/>
            <a:ext cx="603000" cy="1872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4268880" y="6337440"/>
            <a:ext cx="787320" cy="2109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3003480" y="6270480"/>
            <a:ext cx="519120" cy="44316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6348240" y="6310440"/>
            <a:ext cx="871560" cy="31572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5100480" y="6269040"/>
            <a:ext cx="1241640" cy="37296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8"/>
          <a:stretch/>
        </p:blipFill>
        <p:spPr>
          <a:xfrm>
            <a:off x="2000160" y="6288120"/>
            <a:ext cx="27648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38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gency Crime Prevention  for Rail Station Envi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92240" y="4064040"/>
            <a:ext cx="668016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rudi Cooper</a:t>
            </a:r>
            <a:r>
              <a:rPr b="1" lang="en-US" sz="2000" spc="-1" strike="noStrike" baseline="30000">
                <a:solidFill>
                  <a:srgbClr val="8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, Terence Love</a:t>
            </a:r>
            <a:r>
              <a:rPr b="1" lang="en-US" sz="2000" spc="-1" strike="noStrike" baseline="30000">
                <a:solidFill>
                  <a:srgbClr val="8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, Fred Affleck</a:t>
            </a:r>
            <a:r>
              <a:rPr b="1" lang="en-US" sz="2000" spc="-1" strike="noStrike" baseline="30000">
                <a:solidFill>
                  <a:srgbClr val="8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, Erin Donovan</a:t>
            </a:r>
            <a:r>
              <a:rPr b="1" lang="en-US" sz="2000" spc="-1" strike="noStrike" baseline="30000">
                <a:solidFill>
                  <a:srgbClr val="8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8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Curtin University, Perth, WA, Australia</a:t>
            </a:r>
            <a:r>
              <a:rPr b="1" lang="en-US" sz="1600" spc="-1" strike="noStrike" baseline="30000">
                <a:solidFill>
                  <a:srgbClr val="8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8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Edith Cowan University, Perth, WA, 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57600" y="480960"/>
            <a:ext cx="1929600" cy="1634760"/>
            <a:chOff x="3657600" y="480960"/>
            <a:chExt cx="1929600" cy="1634760"/>
          </a:xfrm>
        </p:grpSpPr>
        <p:grpSp>
          <p:nvGrpSpPr>
            <p:cNvPr id="51" name=""/>
            <p:cNvGrpSpPr/>
            <p:nvPr/>
          </p:nvGrpSpPr>
          <p:grpSpPr>
            <a:xfrm>
              <a:off x="3949920" y="480960"/>
              <a:ext cx="1227600" cy="1265400"/>
              <a:chOff x="3949920" y="480960"/>
              <a:chExt cx="1227600" cy="1265400"/>
            </a:xfrm>
          </p:grpSpPr>
          <p:sp>
            <p:nvSpPr>
              <p:cNvPr id="52" name=""/>
              <p:cNvSpPr/>
              <p:nvPr/>
            </p:nvSpPr>
            <p:spPr>
              <a:xfrm>
                <a:off x="3949920" y="480960"/>
                <a:ext cx="1227600" cy="1263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>
                <a:off x="4722120" y="635040"/>
                <a:ext cx="246240" cy="1076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>
                <a:off x="4350600" y="573480"/>
                <a:ext cx="520200" cy="1130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42680" y="567720"/>
                <a:ext cx="632160" cy="1178640"/>
              </a:xfrm>
              <a:custGeom>
                <a:avLst/>
                <a:gdLst/>
                <a:ahLst/>
                <a:rect l="l" t="t" r="r" b="b"/>
                <a:pathLst>
                  <a:path w="584" h="1058">
                    <a:moveTo>
                      <a:pt x="494" y="0"/>
                    </a:moveTo>
                    <a:cubicBezTo>
                      <a:pt x="2" y="1022"/>
                      <a:pt x="75" y="846"/>
                      <a:pt x="0" y="1019"/>
                    </a:cubicBezTo>
                    <a:cubicBezTo>
                      <a:pt x="44" y="1037"/>
                      <a:pt x="27" y="1030"/>
                      <a:pt x="44" y="1035"/>
                    </a:cubicBezTo>
                    <a:cubicBezTo>
                      <a:pt x="61" y="1040"/>
                      <a:pt x="83" y="1044"/>
                      <a:pt x="100" y="1047"/>
                    </a:cubicBezTo>
                    <a:cubicBezTo>
                      <a:pt x="117" y="1050"/>
                      <a:pt x="134" y="1053"/>
                      <a:pt x="148" y="1055"/>
                    </a:cubicBezTo>
                    <a:cubicBezTo>
                      <a:pt x="162" y="1057"/>
                      <a:pt x="169" y="1057"/>
                      <a:pt x="184" y="1057"/>
                    </a:cubicBezTo>
                    <a:cubicBezTo>
                      <a:pt x="199" y="1057"/>
                      <a:pt x="220" y="1058"/>
                      <a:pt x="240" y="1057"/>
                    </a:cubicBezTo>
                    <a:cubicBezTo>
                      <a:pt x="260" y="1056"/>
                      <a:pt x="285" y="1052"/>
                      <a:pt x="304" y="1049"/>
                    </a:cubicBezTo>
                    <a:cubicBezTo>
                      <a:pt x="323" y="1046"/>
                      <a:pt x="304" y="1047"/>
                      <a:pt x="357" y="1037"/>
                    </a:cubicBezTo>
                    <a:cubicBezTo>
                      <a:pt x="578" y="62"/>
                      <a:pt x="353" y="1038"/>
                      <a:pt x="584" y="63"/>
                    </a:cubicBezTo>
                    <a:cubicBezTo>
                      <a:pt x="563" y="48"/>
                      <a:pt x="568" y="51"/>
                      <a:pt x="560" y="45"/>
                    </a:cubicBezTo>
                    <a:cubicBezTo>
                      <a:pt x="552" y="39"/>
                      <a:pt x="544" y="34"/>
                      <a:pt x="537" y="29"/>
                    </a:cubicBezTo>
                    <a:cubicBezTo>
                      <a:pt x="530" y="24"/>
                      <a:pt x="522" y="19"/>
                      <a:pt x="515" y="14"/>
                    </a:cubicBezTo>
                    <a:cubicBezTo>
                      <a:pt x="508" y="9"/>
                      <a:pt x="498" y="3"/>
                      <a:pt x="494" y="0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3657600" y="1716840"/>
              <a:ext cx="192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rebuchet MS"/>
                </a:rPr>
                <a:t>PATRE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teragency collaboration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8040"/>
            <a:ext cx="82296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complex problems to be addressed effe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ises mor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ergies between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 indicates uncoordinated single agency respon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‘problem behaviour’ from one location to another at considerable exp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youth alienation, which may increase anti-social behavio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E83D-56C2-4ADB-9C27-BF1171CAD6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Known problems of interagency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misunderstandings about goals, priorities and roles of other agen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communication when issues oversimplified and viewed only from perspective of each agency’s central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dynamics and interagency poli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agencies dominate discus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ction if problem(s) seem too complex and intrac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try to ‘shift the problem’ to another agency (related to feelings of helplessness/ hopelessness abo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86AF-2806-4AC2-B06C-3BEC48295B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search literature –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ng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-documented worldwide history of conflict between young people and authorities in public space and public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ging out’ easily escalates to public disorder offences if not handled carefu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ng people are the age group most likely to be victims of crime (especially young m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ty perceptions of ‘anti-social’ behaviour by young people are variable and often include both legal and illegal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774E-921A-4A4E-BB99-2356361F94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search literature –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rime pre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policing is expensive and frequently moves location of problem rather than prevents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to control problem ‘in situ’ than displace cr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isfactory ‘in situ’ management requires physical, environmental, cultural or relationship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local priorities and pos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32A1-C519-426C-B739-0765E085B5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search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tion Resear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 inter-agency collaboration, resolving group conflicts, overcoming apathy and hopelessness, and as a foundation for sustainable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ft Systems Meth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for contextual data collection, analysis, choosing interv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4B2A-C497-4E1B-8FA4-37D8981D18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ransferable model principles -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01720"/>
            <a:ext cx="82296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understanding of roles and priorities of different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respectful personal relationships between people in different agencies and organ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shared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E9AD-F907-4C8D-83A9-B1174CD099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ransferable model principles -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how the work of each organisation positively or negatively affects other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knowledge where roles and priorities di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local actions that can support the goals of multiple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F1C5-7C7F-4442-9FC2-D7275A7388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1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ferable model process - 1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Understand agencies’ perceptions of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044440"/>
            <a:ext cx="822960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initial meetings with agencies whose goals, purposes, roles or values confli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‘rich pictures’ for each 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FEFD-280A-4E3A-9DBE-610B07B4A6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ferable model process - 2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Build mutual understanding &amp; respect and identify loc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-structured joint meeting to share information about roles and pri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interrelationships between work of different organisation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and discuss ‘rich pictures’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discussion to identify priority issues where collaboration could bring about positiv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C2E3-21A8-4EBE-BE35-160DC494CC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39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ferable model process - 3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Plan, implement and evaluate collaborativ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68120"/>
            <a:ext cx="82296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 roles, processes and timeline for interv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additional meetings as requir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 moment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obsta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 plans (action research 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that decisions are acted up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relationships are maintained and problems are solved collabora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704D-65CB-4957-97D1-017A1C0C07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ffice of Crime Prevention (O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ublic Transport Authority (P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ity of Armadale (Co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ity of Gosnells (Co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ity of Joondalup (Co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ity of Swan (C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E682-525F-4CC9-A334-3F9DDD304E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ferable model process - 4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Project evaluation and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68120"/>
            <a:ext cx="82296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and share achievements and acknowledge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local arrangements to continue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ise learning by sharing experie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knowledge and celebrate successes (effective collaboration isn’t eas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D06F-6523-45DE-A624-1E9DBDC9F3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ngs that support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begins with the right local organ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group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ve problem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with sufficient seniority and sufficient organisational flex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-focused indiv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F761-580C-4839-AEA4-34168BC536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ngs that inhibit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members feel local situation is too hopeless to try any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are over-constrained by bureaucratic procedures or mind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ith insufficient authority to do any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continuity of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nts have too many competing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organisations omitted from initi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9A01-D431-48FA-9F60-9609755633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9760" y="274680"/>
            <a:ext cx="83566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17520" y="1206360"/>
            <a:ext cx="41781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 of Armad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 of Gosn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 of Joondal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 of S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 Passenger Transport Authority (Transit Guar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 Passenger Transport Authority (Community Educa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madale Youth Resource Cen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eCare, Joondal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of G AP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of G Safer C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of G Travelsm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of G Youth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idors College, Midl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D, Joondal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D, Mid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D, Armad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gArm, Armad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U Youth Work, Joondal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Mates, Kelmsco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lls Community Support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ondalup Youth Support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 Justice, Mid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keside Joondalup Shopping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 Australia, Gosnel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ce &amp; Citizens Youth Club, Mid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 Police Crime Prevention, Gosn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MCA mobile youth service, Joondal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B931-9BA4-442A-96F5-68D661DF47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01760" y="1257480"/>
            <a:ext cx="4880160" cy="479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229E-08B8-4B59-81F1-68E3754498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al lif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39880"/>
            <a:ext cx="82296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concern about anti-social behaviour by some young people in public and pseudo-public spaces around station envi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interagency collaboration between youth agencies and PTA to enable sustainable locally appropriat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8CC5-8AF8-4DFF-9C5D-EDA9925A49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actors that shaped the project -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ffice of Crime Pre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real life crime prevention and public safety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outco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ed commitment by community partners to on-going collaboration after project comple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able model of interagency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informed by relevant academic lit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ies: Action research method plus inter-agency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13B7-F490-4C90-AAAF-A0D4B85E61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actors that shaped the project -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articipating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42920"/>
            <a:ext cx="82296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(6) collaborating funding partners  with diverse perceptions, goals, practices and operational pri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ion by large number of community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 commitment to community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ies: Interagency collaboration, locality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CEDE-F73D-4B59-A95B-5ECC4ECE93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olicy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policies encourage increased public transport us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r of groups of young people inhibits some patrons’ rail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xisting relationship between PTA and local youth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conflict between some young people and various security services that police pseudo-public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992E-E797-4344-A425-DF129C24B1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search literature –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teragency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26920"/>
            <a:ext cx="82296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gency collaboration important because actions of agencies positively and negatively affect each others’ work in a 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gency collaboration extremely difficult to establish and main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nce of operational practices, values, goals and roles exacerbates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ner agencies have diverse organisational  goals, roles and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7C9E-A610-4024-8103-8586110079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08:25:26Z</dcterms:created>
  <dc:creator>faffleck</dc:creator>
  <dc:description/>
  <dc:language>en-US</dc:language>
  <cp:lastModifiedBy>tlove</cp:lastModifiedBy>
  <dcterms:modified xsi:type="dcterms:W3CDTF">2006-11-23T03:10:59Z</dcterms:modified>
  <cp:revision>94</cp:revision>
  <dc:subject/>
  <dc:title>Slide 1</dc:title>
</cp:coreProperties>
</file>