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D8A-13A7-43A7-8CF3-738C8FD5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745-3981-4181-8AEC-E8BCB94D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176-FC85-4469-90E5-89145500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F59-E69B-4170-A1EF-2515BB64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9FEA-8B56-46A4-A751-1F3239CF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C703-5CBF-4B9F-AF3C-3E5D1519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85FF-192E-44D4-A5DE-E4FF5841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5F92-EECB-4241-A301-9D3B8E1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B7ED-FFA4-4C96-95C2-89D840D5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7706-EFD8-4C46-AC9E-AC993AA8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52C0-3425-4CD7-A849-D1F82EAD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175-8561-495F-B911-E31935E6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A6AB-7913-4BE1-AABC-F4540EE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E1BF-A250-4276-A437-0B84DE7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3C7D-A329-40D1-A238-572D1FB7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E66F-7214-4AD1-8781-F983CF85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4D0E-7088-4FA8-AD14-E9A98103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DE6-25B8-4909-B1D0-7F74864D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24F-2736-44DD-B6E8-DDAB6586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E39-A198-407E-8E09-1ADA7CA7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007-8C11-42E6-8E02-38162C61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B22-713C-45F9-999C-FFA106A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028-C63F-4FB6-ABBF-411BE468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AF1-40A1-49FE-B19A-59A60D5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61A6-7EAD-474D-8B6A-8E5B486B0E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3791-49B2-4422-8B0C-3FC45F8BD0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&amp; Inno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Terence L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ulty of Huma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 Associate DEB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8039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arch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nter-intuitive understanding of complex systems (socio-tech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anipulating locus of power in complex socio-technical information system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mplex built environment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ewriting Ashby’s theories of variety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ystem typ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ign Out Crim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ail travel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destrian system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lanning proces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formation system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uterised fashion design and production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tegrating programming and high fashion design in woo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atching body shape to most attractive cloth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radin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lothing for extrem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ign infrastructur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ation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arge multinational companies information infrastructur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University design and innovaiton infrastrutur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formation system design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atabase driven system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ocio-tech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ign theor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thological approach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ustainability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oles of emotion, feeling and self in design cognition, collaboration and use of object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ating behaviour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ocument design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Portfolio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he minimalist university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elf education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7:29:14Z</dcterms:created>
  <dc:creator>Terence Love</dc:creator>
  <dc:description/>
  <dc:language>en-US</dc:language>
  <cp:lastModifiedBy>Terence Love</cp:lastModifiedBy>
  <dcterms:modified xsi:type="dcterms:W3CDTF">2008-06-21T09:00:45Z</dcterms:modified>
  <cp:revision>3</cp:revision>
  <dc:subject/>
  <dc:title>Design &amp; Innovation</dc:title>
</cp:coreProperties>
</file>